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970-CF54-4C15-A542-08174A0B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519-FD91-44C2-9BDA-52400A93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134-E388-42C6-8750-15176EBB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C7E-E4E4-4F1E-B5CB-78D268B5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C0E-9FAC-427A-9E1F-7A8EBAA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ACE-2CB9-41D4-8E46-CF3984E6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6B4-0457-4617-ADFD-CAD7AD05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362-CDE6-4151-8983-007672A2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034-5A1C-498E-B41B-2449669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B42-7D37-497C-98D3-338533A1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324-3E14-4077-BFF1-5196A20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6C2-4DCE-4B38-9545-FAF0931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B4F1-A363-4F93-B449-14747E5A46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05C-24A9-4CD2-9AEE-6A6F60DDB6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加强理论学习是增强党性修养的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Calibri"/>
              </a:rPr>
              <a:t>基本途径</a:t>
            </a:r>
            <a:br>
              <a:rPr sz="3700"/>
            </a:br>
            <a:br>
              <a:rPr sz="37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中心组学习二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6560" y="11980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问题：有的党员理想信念不坚定，党员意识和执政意识淡薄，有的党员领导干部能力不强，导致基层组织战斗力不强，不能发挥战斗堡垒作用等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内容占位符 2"/>
          <p:cNvSpPr/>
          <p:nvPr/>
        </p:nvSpPr>
        <p:spPr>
          <a:xfrm>
            <a:off x="466560" y="34304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害：严重影响着党的形象，损害党和人民的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内容占位符 2"/>
          <p:cNvSpPr/>
          <p:nvPr/>
        </p:nvSpPr>
        <p:spPr>
          <a:xfrm>
            <a:off x="395280" y="479736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解决办法：树立良好的学习意识，加强理论学习，提高学习能力，进一步增强党性修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6560" y="11980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党性修养”是指党员在自己的思想上、行动上自觉地按党性原则办事，是党员的自我 教育、自我改造、自我完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内容占位符 2"/>
          <p:cNvSpPr/>
          <p:nvPr/>
        </p:nvSpPr>
        <p:spPr>
          <a:xfrm>
            <a:off x="466560" y="34304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加强党性修养：要修信，要修品，要修行，要修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内容占位符 2"/>
          <p:cNvSpPr/>
          <p:nvPr/>
        </p:nvSpPr>
        <p:spPr>
          <a:xfrm>
            <a:off x="395280" y="479736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增强党性修养的基本途径：加强理论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6560" y="11984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、树立学习意识是增强党性修养的根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内容占位符 2"/>
          <p:cNvSpPr/>
          <p:nvPr/>
        </p:nvSpPr>
        <p:spPr>
          <a:xfrm>
            <a:off x="466560" y="2421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要把学习放在第一位，树立良好的学习意识是增强党性修养的根本所在，也是增强党性修养的现实需要，是树立正确的世界观、人生观和价值观的需要，是不断提高业务素质的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6560" y="11984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二、加强理论学习是增强党性修养的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内容占位符 2"/>
          <p:cNvSpPr/>
          <p:nvPr/>
        </p:nvSpPr>
        <p:spPr>
          <a:xfrm>
            <a:off x="395280" y="2349360"/>
            <a:ext cx="82296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革命导师列宁曾经谆谆教导青年一代，只有用人类创造的全部知识财富来丰富自己的头脑，才能成为共产主义者。学而不厌，诲人不倦，用马克思主义理论和各种科学文化知识武装自己，既是新时期做一名合格的共产党员的必备条件，也是我们共产党员增强党性修养的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6560" y="11984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三、提高学习能力是增强党性修养的关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内容占位符 2"/>
          <p:cNvSpPr/>
          <p:nvPr/>
        </p:nvSpPr>
        <p:spPr>
          <a:xfrm>
            <a:off x="395280" y="1989000"/>
            <a:ext cx="82296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提高学习能力一要营造良好的学风，提高学习的主动性、自觉性和紧迫感。二要树立终身学习的理念，做到学习工作化，工作学习化，不断地接受新信息、获得新知识、增长新本领、迎接新挑战，打牢根基。三要不断培育学习典型，发挥带头作用，在广大党员中营造人人学习、随时学习、终身学习的良好氛围，树立勤奋学习、勇于创新的良好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6560" y="19177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必须坚持终身学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内容占位符 2"/>
          <p:cNvSpPr/>
          <p:nvPr/>
        </p:nvSpPr>
        <p:spPr>
          <a:xfrm>
            <a:off x="395280" y="2997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知道党性修养永无止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内容占位符 2"/>
          <p:cNvSpPr/>
          <p:nvPr/>
        </p:nvSpPr>
        <p:spPr>
          <a:xfrm>
            <a:off x="395280" y="4005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把理论应用于实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3"/>
          <p:cNvSpPr/>
          <p:nvPr/>
        </p:nvSpPr>
        <p:spPr>
          <a:xfrm>
            <a:off x="3503880" y="285444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  <a:ea typeface="宋体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6:57:00Z</dcterms:created>
  <dc:creator>SkyUN.Org</dc:creator>
  <dc:description/>
  <dc:language>en-US</dc:language>
  <cp:lastModifiedBy>社区学院</cp:lastModifiedBy>
  <dcterms:modified xsi:type="dcterms:W3CDTF">2014-11-05T23:59:23Z</dcterms:modified>
  <cp:revision>26</cp:revision>
  <dc:subject/>
  <dc:title>走好新成立党支部的第一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